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D1B-BBE6-46AB-9DE7-1418D251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406-77C2-4C0F-8FF1-C21C0F68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0E5-244E-4A5C-B2FF-8A678D7E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276-6058-403C-A00F-9DE80632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55C-5D2C-4A7A-8227-EC8D40DC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6F8-4E6D-41CE-A2DB-B44D96B8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482-0752-43D0-A6B4-D6350FAB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5C5-1013-4B01-8EC9-378D9E37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B4D-2286-4D4D-A215-9065D12B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AA9-6694-41B8-AAE6-45DADDB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02D-0E4B-45BA-A8DF-8350F706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939-D265-409C-97FF-1F8E36E8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1A87-E119-4C69-BFF3-3A779AB0B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pearlsplp.wikispaces.com/" TargetMode="External"/><Relationship Id="rId4" Type="http://schemas.openxmlformats.org/officeDocument/2006/relationships/hyperlink" Target="mailto:sheryl@plpnetwork.com" TargetMode="External"/><Relationship Id="rId5" Type="http://schemas.openxmlformats.org/officeDocument/2006/relationships/hyperlink" Target="mailto:will@plpnetwork.co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earlsplp.wikispaces.com/" TargetMode="External"/><Relationship Id="rId3" Type="http://schemas.openxmlformats.org/officeDocument/2006/relationships/hyperlink" Target="http://pearlsplp.wikispaces.com/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62520" y="5494320"/>
          <a:ext cx="51814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494320"/>
                    <a:ext cx="5181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295280" y="228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Questions?  Concern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000160" y="1268280"/>
            <a:ext cx="51436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762120"/>
            <a:ext cx="640080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at do we hope to gai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at will we learn from each oth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at do we valu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o do we includ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o will take the lead roles? (coordinator, expert, librarian, for exampl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at sort of knowledge will we use, share and documen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ptions of Team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borativ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8080"/>
            <a:ext cx="52578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join 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our wiki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earlsplp.wikispace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NING Inv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ou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you have joined you may have to log back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300996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04920" y="1219320"/>
            <a:ext cx="609588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Our virtual collaboration space (wi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pearlsplp.wikispaces.com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446640"/>
            <a:ext cx="4114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ryl Nussbaum-Beach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sheryl@plpnetwor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Richardson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/>
              </a:rPr>
              <a:t>will@plpnetwork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0" y="0"/>
            <a:ext cx="47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LP PEARLS Project Team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1714680" cy="2914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99072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meet our non- public PEARLS school team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0" y="2971800"/>
            <a:ext cx="3492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0" y="0"/>
            <a:ext cx="47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LP PEARLS Project Team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62920" y="2971800"/>
            <a:ext cx="1714320" cy="291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99072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meet our public PEARLS school team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895480" y="2666880"/>
            <a:ext cx="34610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962520" y="5494320"/>
          <a:ext cx="51814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494320"/>
                    <a:ext cx="5181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71600" y="838080"/>
            <a:ext cx="1828800" cy="2210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295280"/>
            <a:ext cx="1752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all day workshops that build capacity, community and develop 2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entury ski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8380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523880"/>
            <a:ext cx="5331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838080"/>
            <a:ext cx="213372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14300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meetings where teams meet, listen and then reflect in small grou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u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15238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685800"/>
            <a:ext cx="1828800" cy="243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990720"/>
            <a:ext cx="1828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we deepen understanding, network, share resources and grow as a community of pract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668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3352680"/>
            <a:ext cx="3352680" cy="2210040"/>
          </a:xfrm>
          <a:prstGeom prst="rect">
            <a:avLst/>
          </a:prstGeom>
          <a:solidFill>
            <a:srgbClr val="3333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32004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sional Learning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b embedded teams who meet f2f and work towards scale and alignment  of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 skills with school improvement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200400"/>
            <a:ext cx="5335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2819520"/>
            <a:ext cx="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58000" y="3200400"/>
            <a:ext cx="5335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owerful Learning Practice Deliver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1714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962520" y="5494320"/>
          <a:ext cx="51814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494320"/>
                    <a:ext cx="5181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295280" y="1840680"/>
            <a:ext cx="5943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20 school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am has a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Fellows to support th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supported by the Community Leader --Dean Share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2f meet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live curriculum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collaboration in V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 around helping you design and deliver 2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entury lesson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1680" y="38088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5905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-76320"/>
            <a:ext cx="655308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Collaborative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PEARL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iki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Del.icio.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lum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724280" y="2514600"/>
            <a:ext cx="41086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1523880"/>
            <a:ext cx="792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Arial"/>
              </a:rPr>
              <a:t>Knowledge: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derstanding of the transformative potential of Web 2.0 tools in a global perspective and context, and how those potentials can be realized in sch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Arial"/>
              </a:rPr>
              <a:t>Pedagogy: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derstanding of the shifting learning literacies that the 21 Century demands and how those literacies inform teacher practice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Planned Outcomes</a:t>
            </a: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298520"/>
            <a:ext cx="86868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velopment of sustained professional learning networks for team members to begin experimenting and sharing with other team members and online colleagues from around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Sustainabi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eation of long term plan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vision forward in participating districts at the end of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Capacity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rease in the abilities and resources of individuals, teams and the community to manage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9:48:02Z</dcterms:created>
  <dc:creator>Sheryl Nussbaum-Beach</dc:creator>
  <dc:description/>
  <dc:language>en-US</dc:language>
  <cp:lastModifiedBy>snbeach</cp:lastModifiedBy>
  <dcterms:modified xsi:type="dcterms:W3CDTF">2008-11-10T11:13:23Z</dcterms:modified>
  <cp:revision>7</cp:revision>
  <dc:subject/>
  <dc:title>PowerPoint Presentation</dc:title>
</cp:coreProperties>
</file>